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744A-669C-4459-8A64-EB18AAB6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3BB-2B71-4EE1-AD00-DA92A967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118-10B4-45A2-BB94-269C59CA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B89-AAF9-446F-8DF8-8EEF5E32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2E2-3EA3-4064-9253-C452712F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E0B-EE09-4F5C-B2B4-2A9D3CDD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8AA5-81C0-4A7D-BB02-2625A9D0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D8E-71B9-4A58-99DF-88A384D3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426-2150-4110-9BDF-C7DB1330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838-6AAB-4922-B88E-98C75E78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3C31-9F53-40F2-BA76-BFF90408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947-3B73-4A44-9D68-486CEAFA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668A-B641-436A-BA6D-3337A590A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Jason Bry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http://clio.missouristate.edu/chuchiak/New%20Webpage%20Images/10056152aAthensAgora.jpg"/>
          <p:cNvPicPr/>
          <p:nvPr/>
        </p:nvPicPr>
        <p:blipFill>
          <a:blip r:embed="rId1"/>
          <a:stretch/>
        </p:blipFill>
        <p:spPr>
          <a:xfrm>
            <a:off x="0" y="2028960"/>
            <a:ext cx="9144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http://static.newworldencyclopedia.org/thumb/c/cd/Escola_de_Atenas.jpg/350px-Escola_de_Atenas.jpg"/>
          <p:cNvPicPr/>
          <p:nvPr/>
        </p:nvPicPr>
        <p:blipFill>
          <a:blip r:embed="rId1"/>
          <a:stretch/>
        </p:blipFill>
        <p:spPr>
          <a:xfrm>
            <a:off x="0" y="2854440"/>
            <a:ext cx="914400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9528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http://www.mlahanas.de/Greece/Regions/images/ChalcidiceM.gif"/>
          <p:cNvPicPr/>
          <p:nvPr/>
        </p:nvPicPr>
        <p:blipFill>
          <a:blip r:embed="rId1"/>
          <a:stretch/>
        </p:blipFill>
        <p:spPr>
          <a:xfrm>
            <a:off x="0" y="2457360"/>
            <a:ext cx="9144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6765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Athens and Spar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http://www.historyforkids.org/learn/greeks/history/pictures/alexmosaic.jpg"/>
          <p:cNvPicPr/>
          <p:nvPr/>
        </p:nvPicPr>
        <p:blipFill>
          <a:blip r:embed="rId1"/>
          <a:stretch/>
        </p:blipFill>
        <p:spPr>
          <a:xfrm>
            <a:off x="0" y="2247840"/>
            <a:ext cx="9144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http://westerlund10.wikis.birmingham.k12.mi.us/file/view/oligarchy.gif/210870380/oligarchy.gif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kypros.org/Occupied_Cyprus/cyprus1974/images/villages_towns/Kyrenia_harbor_750_bg.jpg"/>
          <p:cNvPicPr/>
          <p:nvPr/>
        </p:nvPicPr>
        <p:blipFill>
          <a:blip r:embed="rId1"/>
          <a:stretch/>
        </p:blipFill>
        <p:spPr>
          <a:xfrm>
            <a:off x="0" y="2448000"/>
            <a:ext cx="91440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2.gstatic.com/images?q=tbn:ANd9GcQfdt8519XZWjTZ-WsaoOLlNua88XY95JQJwxGKTw5MonhblMw9aA"/>
          <p:cNvPicPr/>
          <p:nvPr/>
        </p:nvPicPr>
        <p:blipFill>
          <a:blip r:embed="rId1"/>
          <a:stretch/>
        </p:blipFill>
        <p:spPr>
          <a:xfrm>
            <a:off x="0" y="1895400"/>
            <a:ext cx="91440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63360" y="-692280"/>
            <a:ext cx="189576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63360" y="-692280"/>
            <a:ext cx="189576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http://upload.wikimedia.org/wikipedia/commons/thumb/5/56/AncientAgoraofAthensColour.jpg/300px-AncientAgoraofAthensColour.jpg"/>
          <p:cNvPicPr/>
          <p:nvPr/>
        </p:nvPicPr>
        <p:blipFill>
          <a:blip r:embed="rId1"/>
          <a:stretch/>
        </p:blipFill>
        <p:spPr>
          <a:xfrm>
            <a:off x="0" y="1771560"/>
            <a:ext cx="91440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0" y="12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w 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t1.gstatic.com/images?q=tbn:ANd9GcTP8qmkxS1ITrzSmkROXXmGbwf6lN_gi_Bj0YNNo7vsK-HobLwh"/>
          <p:cNvPicPr/>
          <p:nvPr/>
        </p:nvPicPr>
        <p:blipFill>
          <a:blip r:embed="rId1"/>
          <a:stretch/>
        </p:blipFill>
        <p:spPr>
          <a:xfrm>
            <a:off x="0" y="2548080"/>
            <a:ext cx="91440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7652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3360" y="-10288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t0.gstatic.com/images?q=tbn:ANd9GcSrTavWWzQwqBiauxwF0oXdcHutoEkcT_XM-_YB4UCyQsmpXF99r06rIEqcc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0" y="12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people who lived apart from Greece btu kept economic ties with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image.shutterstock.com/display_pic_with_logo/339454/339454,1283459365,1/stock-photo-ancient-greek-colony-chersonesos-ruins-in-crimea-ukraine-on-the-banck-of-black-sea-60245548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430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://greece.mrdonn.org/athens1.gif"/>
          <p:cNvPicPr/>
          <p:nvPr/>
        </p:nvPicPr>
        <p:blipFill>
          <a:blip r:embed="rId1"/>
          <a:stretch/>
        </p:blipFill>
        <p:spPr>
          <a:xfrm>
            <a:off x="0" y="2622600"/>
            <a:ext cx="914400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goldcoin.org/wp-content/uploads/goldsmiths-hall.jpg"/>
          <p:cNvPicPr/>
          <p:nvPr/>
        </p:nvPicPr>
        <p:blipFill>
          <a:blip r:embed="rId1"/>
          <a:stretch/>
        </p:blipFill>
        <p:spPr>
          <a:xfrm>
            <a:off x="0" y="2371680"/>
            <a:ext cx="9144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http://1.bp.blogspot.com/--6Q_mdPOLgA/TZORpHKZNNI/AAAAAAAAAdo/zwFT0iGw02c/s1600/Pericles.jpg"/>
          <p:cNvPicPr/>
          <p:nvPr/>
        </p:nvPicPr>
        <p:blipFill>
          <a:blip r:embed="rId1"/>
          <a:stretch/>
        </p:blipFill>
        <p:spPr>
          <a:xfrm>
            <a:off x="0" y="2371680"/>
            <a:ext cx="9144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8T14:06:08Z</dcterms:modified>
  <cp:revision>96</cp:revision>
  <dc:subject/>
  <dc:title>Ancient Greece</dc:title>
</cp:coreProperties>
</file>